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2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5.wmf" ContentType="image/x-wmf"/>
  <Override PartName="/ppt/media/image14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23.wmf" ContentType="image/x-wmf"/>
  <Override PartName="/ppt/media/image37.jpeg" ContentType="image/jpe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13.jpeg" ContentType="image/jpeg"/>
  <Override PartName="/ppt/media/image4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E4A-4512-427D-8098-D7361FC2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F20-2B5B-418C-9128-5DBAC319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687-5814-462E-A6CF-E4D84964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1FD-BF30-4E61-ABE9-271440AE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2EC3-5255-41D1-A8BE-3D35B7E0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3CB7-95AF-4D41-A664-BFDF5C87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A210-79D9-457C-B339-67EEC36D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C4B6-6F8B-418B-B9FA-1B96A3B1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2A78-8E98-49EB-805D-642C650C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B130-E01D-400D-A9F7-4B8CA0DE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869E-F8BF-4792-A358-40AB29FE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D34-D185-4F44-9A9C-C22AB67B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A9CA-30E3-4192-8028-DFA3550A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7962-1001-43C8-9E4D-EDAE3EC6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0EEF-D693-4607-997A-A3587C0C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CDA2-B8B5-4646-BDCE-4890A3B6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DA3D-27EF-4C80-970A-1BCF370D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775-965E-41D4-9AB3-31360F1A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7D1-AF90-4690-855C-2832AA67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0E6-CB2B-47ED-A6EA-DADEE5B3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49A-59B1-4081-BF14-10049C2D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CAA-0268-4CC3-89D2-88184975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A63-2415-42D5-AC3B-0E5B1F0D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BDB-D1F1-49F1-A578-144384C0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453360"/>
            <a:ext cx="2895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1636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BDE6-CDBB-4C6D-9031-F4B6F79CA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1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Graphics Interface, Victoria, 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C30A-9DC7-46A7-BC3F-B5E5410CAC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649680"/>
            <a:ext cx="9144000" cy="195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roving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rag-and-d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n wall-size displ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560" y="4220640"/>
            <a:ext cx="8497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e Collomb</a:t>
            </a:r>
            <a:r>
              <a:rPr b="1" lang="en-US" sz="2800" spc="-1" strike="noStrike">
                <a:solidFill>
                  <a:srgbClr val="c8c8c8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LIR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rick Baudisch</a:t>
            </a:r>
            <a:r>
              <a:rPr b="1" lang="en-US" sz="2800" spc="-1" strike="noStrike">
                <a:solidFill>
                  <a:srgbClr val="c8c8c8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Microsoft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Mountaz Hascoët,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LIRMM</a:t>
            </a: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Brian Lee, Stanford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Computer Grap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7384" t="0" r="4747" b="0"/>
          <a:stretch/>
        </p:blipFill>
        <p:spPr>
          <a:xfrm>
            <a:off x="3348000" y="40464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isbee [Khan, UIST 04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3751560" cy="1761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6273720" cy="2351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64280" y="1197000"/>
            <a:ext cx="3879720" cy="24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205-B806-4632-B300-BB420DC59F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ointers [Olsen 01, Myers 02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34320" cy="51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46B-646B-4E18-B504-3BF665D6E3B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ctorBeam [Parker, in 30min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7993080" cy="301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849-0A2B-4B38-93FB-18D3C8A2BE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sh-and-throw [Hascoët, HCI 0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tograph principl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~go go technique [Poupyrev, UIST 96]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DBA-4CC5-4C18-A645-595C09E914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2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4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AR [Nacenta,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 05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tographs (lots of them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756468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D96-7C7C-4ACD-93EF-622823D2BC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ag-and-pop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Baudisch, INTERACT 0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C948-80FE-4AD7-9B40-A19BF1B8207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734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468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cuum [Bezerianos, CHI 05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632720" cy="49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EC9-7A49-48B9-9FE0-4BCC3AA417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question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4DB-588E-4ADB-A248-643DFDF097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user to content (push-and-thro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content to user (drag-and-po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just good old direct manipul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ick-and-drop)</a:t>
            </a:r>
            <a:br>
              <a:rPr sz="2800"/>
            </a:b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DD4-869E-4994-946A-E5A4A055C1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xing drag-and-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symmetric targe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proxies appear in current display un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-1668" b="-1352"/>
          <a:stretch/>
        </p:blipFill>
        <p:spPr>
          <a:xfrm>
            <a:off x="4284720" y="4365720"/>
            <a:ext cx="431964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28E7-6561-48FD-AF43-743C8F5049A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179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698480"/>
            <a:ext cx="9144000" cy="4181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1697040"/>
            <a:ext cx="9144000" cy="4183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1700280"/>
            <a:ext cx="9144000" cy="4179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Push-and-pop: not quite a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6021360"/>
            <a:ext cx="56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load our demo from www.lirmm.fr/vag/dr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DBC-D764-46CD-B0C5-9D714AD9828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xing push-and-thr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non-linear accel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semantic pointing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 down pointer over target [Blanch CHI 04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8000" y="3933720"/>
            <a:ext cx="5143680" cy="235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908000" y="3933720"/>
            <a:ext cx="5143680" cy="23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061-D099-4461-9A96-D8BC8091C87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44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4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4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8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48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ait: maybe push-and-throw and drag-and-pop are not mutually exclusiv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AA2-2919-4FDE-8D39-D96E9E4F54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drag-and-p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nging targets to the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imprecision of push-and-th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push-and-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object centered take-off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target set selection error of drag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659640" y="4292640"/>
            <a:ext cx="2306520" cy="1219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294600" y="2205000"/>
            <a:ext cx="2849400" cy="12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1AF-FBDF-4181-BC2B-EBD0503BAA3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EA2-6B79-4634-BAF8-1E680BB8EE1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34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1068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User 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1F2-113B-44F3-BBD9-739988BEA8B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616720" y="260280"/>
            <a:ext cx="35272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Wal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p. n°2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29080" cy="3546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067280" y="2833560"/>
            <a:ext cx="5076720" cy="3630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4437000"/>
            <a:ext cx="3851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 displa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p. n°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67280" y="2852640"/>
            <a:ext cx="5076720" cy="36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AB6-AA38-457E-960A-6BCA9E9C5A8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f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2276640"/>
          <a:ext cx="8569080" cy="3622680"/>
        </p:xfrm>
        <a:graphic>
          <a:graphicData uri="http://schemas.openxmlformats.org/drawingml/2006/table">
            <a:tbl>
              <a:tblPr/>
              <a:tblGrid>
                <a:gridCol w="2828880"/>
                <a:gridCol w="2500200"/>
                <a:gridCol w="32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echn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Appro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ed to reor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Drag-and-dr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Pick-and-dr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Push-and-th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targ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Consta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Accelerated 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targ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Consta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Drag-and-p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po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O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sh-and-p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po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ce, later 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08000" y="2781360"/>
            <a:ext cx="8856720" cy="10080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000" y="3860640"/>
            <a:ext cx="8856720" cy="10083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4869000"/>
            <a:ext cx="8856720" cy="10080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CCC-6697-43D1-AF5F-752C90573F5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gging icons into target ic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 simulated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di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 3 tim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 times on the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6 / 288 trials for each particip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t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or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jective satisf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FCD-6497-43EC-BF69-16E02DF4CB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4295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20720" y="1474920"/>
            <a:ext cx="6337440" cy="3429000"/>
          </a:xfrm>
          <a:custGeom>
            <a:avLst/>
            <a:gdLst/>
            <a:ahLst/>
            <a:rect l="l" t="t" r="r" b="b"/>
            <a:pathLst>
              <a:path w="3992" h="2160">
                <a:moveTo>
                  <a:pt x="208" y="1836"/>
                </a:moveTo>
                <a:cubicBezTo>
                  <a:pt x="369" y="1795"/>
                  <a:pt x="923" y="1906"/>
                  <a:pt x="1129" y="1843"/>
                </a:cubicBezTo>
                <a:cubicBezTo>
                  <a:pt x="1335" y="1780"/>
                  <a:pt x="1335" y="1675"/>
                  <a:pt x="1444" y="1459"/>
                </a:cubicBezTo>
                <a:cubicBezTo>
                  <a:pt x="1553" y="1243"/>
                  <a:pt x="1559" y="766"/>
                  <a:pt x="1782" y="546"/>
                </a:cubicBezTo>
                <a:cubicBezTo>
                  <a:pt x="2005" y="326"/>
                  <a:pt x="2488" y="209"/>
                  <a:pt x="2781" y="139"/>
                </a:cubicBezTo>
                <a:cubicBezTo>
                  <a:pt x="3074" y="69"/>
                  <a:pt x="3381" y="0"/>
                  <a:pt x="3541" y="123"/>
                </a:cubicBezTo>
                <a:cubicBezTo>
                  <a:pt x="3701" y="246"/>
                  <a:pt x="3992" y="733"/>
                  <a:pt x="3741" y="876"/>
                </a:cubicBezTo>
                <a:cubicBezTo>
                  <a:pt x="3490" y="1019"/>
                  <a:pt x="2395" y="848"/>
                  <a:pt x="2036" y="983"/>
                </a:cubicBezTo>
                <a:cubicBezTo>
                  <a:pt x="1677" y="1118"/>
                  <a:pt x="1730" y="1500"/>
                  <a:pt x="1587" y="1685"/>
                </a:cubicBezTo>
                <a:cubicBezTo>
                  <a:pt x="1444" y="1870"/>
                  <a:pt x="1416" y="2026"/>
                  <a:pt x="1179" y="2093"/>
                </a:cubicBezTo>
                <a:cubicBezTo>
                  <a:pt x="942" y="2160"/>
                  <a:pt x="324" y="2132"/>
                  <a:pt x="162" y="2089"/>
                </a:cubicBezTo>
                <a:cubicBezTo>
                  <a:pt x="0" y="2046"/>
                  <a:pt x="47" y="1877"/>
                  <a:pt x="208" y="1836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2800" y="3370320"/>
            <a:ext cx="6505560" cy="1539720"/>
          </a:xfrm>
          <a:custGeom>
            <a:avLst/>
            <a:gdLst/>
            <a:ahLst/>
            <a:rect l="l" t="t" r="r" b="b"/>
            <a:pathLst>
              <a:path w="4098" h="970">
                <a:moveTo>
                  <a:pt x="267" y="519"/>
                </a:moveTo>
                <a:cubicBezTo>
                  <a:pt x="338" y="448"/>
                  <a:pt x="493" y="490"/>
                  <a:pt x="599" y="486"/>
                </a:cubicBezTo>
                <a:cubicBezTo>
                  <a:pt x="705" y="482"/>
                  <a:pt x="743" y="552"/>
                  <a:pt x="904" y="496"/>
                </a:cubicBezTo>
                <a:cubicBezTo>
                  <a:pt x="1065" y="440"/>
                  <a:pt x="1410" y="177"/>
                  <a:pt x="1567" y="148"/>
                </a:cubicBezTo>
                <a:cubicBezTo>
                  <a:pt x="1724" y="119"/>
                  <a:pt x="1747" y="308"/>
                  <a:pt x="1849" y="319"/>
                </a:cubicBezTo>
                <a:cubicBezTo>
                  <a:pt x="1951" y="330"/>
                  <a:pt x="2073" y="209"/>
                  <a:pt x="2179" y="212"/>
                </a:cubicBezTo>
                <a:cubicBezTo>
                  <a:pt x="2285" y="215"/>
                  <a:pt x="2388" y="333"/>
                  <a:pt x="2486" y="335"/>
                </a:cubicBezTo>
                <a:cubicBezTo>
                  <a:pt x="2584" y="337"/>
                  <a:pt x="2611" y="282"/>
                  <a:pt x="2770" y="227"/>
                </a:cubicBezTo>
                <a:cubicBezTo>
                  <a:pt x="2929" y="172"/>
                  <a:pt x="3287" y="10"/>
                  <a:pt x="3439" y="5"/>
                </a:cubicBezTo>
                <a:cubicBezTo>
                  <a:pt x="3591" y="0"/>
                  <a:pt x="3627" y="103"/>
                  <a:pt x="3684" y="196"/>
                </a:cubicBezTo>
                <a:cubicBezTo>
                  <a:pt x="3741" y="289"/>
                  <a:pt x="4098" y="492"/>
                  <a:pt x="3784" y="565"/>
                </a:cubicBezTo>
                <a:cubicBezTo>
                  <a:pt x="3470" y="638"/>
                  <a:pt x="2210" y="582"/>
                  <a:pt x="1797" y="632"/>
                </a:cubicBezTo>
                <a:cubicBezTo>
                  <a:pt x="1384" y="682"/>
                  <a:pt x="1578" y="819"/>
                  <a:pt x="1307" y="866"/>
                </a:cubicBezTo>
                <a:cubicBezTo>
                  <a:pt x="1036" y="913"/>
                  <a:pt x="346" y="970"/>
                  <a:pt x="173" y="912"/>
                </a:cubicBezTo>
                <a:cubicBezTo>
                  <a:pt x="0" y="854"/>
                  <a:pt x="196" y="590"/>
                  <a:pt x="267" y="519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5600" y="4246560"/>
            <a:ext cx="6465600" cy="649440"/>
          </a:xfrm>
          <a:custGeom>
            <a:avLst/>
            <a:gdLst/>
            <a:ahLst/>
            <a:rect l="l" t="t" r="r" b="b"/>
            <a:pathLst>
              <a:path w="4073" h="409">
                <a:moveTo>
                  <a:pt x="0" y="366"/>
                </a:moveTo>
                <a:cubicBezTo>
                  <a:pt x="559" y="409"/>
                  <a:pt x="2853" y="403"/>
                  <a:pt x="3463" y="351"/>
                </a:cubicBezTo>
                <a:cubicBezTo>
                  <a:pt x="4073" y="299"/>
                  <a:pt x="3698" y="102"/>
                  <a:pt x="3663" y="51"/>
                </a:cubicBezTo>
                <a:cubicBezTo>
                  <a:pt x="3628" y="0"/>
                  <a:pt x="3378" y="27"/>
                  <a:pt x="3256" y="44"/>
                </a:cubicBezTo>
                <a:cubicBezTo>
                  <a:pt x="3134" y="61"/>
                  <a:pt x="3130" y="151"/>
                  <a:pt x="2933" y="151"/>
                </a:cubicBezTo>
                <a:cubicBezTo>
                  <a:pt x="2736" y="151"/>
                  <a:pt x="2328" y="50"/>
                  <a:pt x="2073" y="44"/>
                </a:cubicBezTo>
                <a:cubicBezTo>
                  <a:pt x="1818" y="38"/>
                  <a:pt x="1663" y="93"/>
                  <a:pt x="1405" y="113"/>
                </a:cubicBezTo>
                <a:cubicBezTo>
                  <a:pt x="1147" y="133"/>
                  <a:pt x="738" y="171"/>
                  <a:pt x="522" y="167"/>
                </a:cubicBezTo>
                <a:cubicBezTo>
                  <a:pt x="306" y="163"/>
                  <a:pt x="194" y="57"/>
                  <a:pt x="107" y="90"/>
                </a:cubicBezTo>
                <a:cubicBezTo>
                  <a:pt x="20" y="123"/>
                  <a:pt x="22" y="309"/>
                  <a:pt x="0" y="366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400" y="5805360"/>
            <a:ext cx="80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 task completion time for each technique depending of the ID of th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860640"/>
            <a:ext cx="431640" cy="43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1557360"/>
            <a:ext cx="0" cy="381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DCFA-C184-456B-A469-8235938E756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293080" cy="4233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79240" y="5805360"/>
            <a:ext cx="24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or rate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(in per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3860640"/>
            <a:ext cx="2232000" cy="5050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131920"/>
            <a:ext cx="2232000" cy="5050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4508640"/>
            <a:ext cx="2232000" cy="504720"/>
          </a:xfrm>
          <a:prstGeom prst="rect">
            <a:avLst/>
          </a:prstGeom>
          <a:noFill/>
          <a:ln w="76320">
            <a:solidFill>
              <a:srgbClr val="284b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11560"/>
            <a:ext cx="2232000" cy="504720"/>
          </a:xfrm>
          <a:prstGeom prst="rect">
            <a:avLst/>
          </a:prstGeom>
          <a:noFill/>
          <a:ln w="76320">
            <a:solidFill>
              <a:srgbClr val="284b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0C0-6A0B-468E-8076-FD0D1E43DEC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ames ahea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789-CC28-425C-BD59-B2C6C1533C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084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489400" y="580536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ive preferences (higher is be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1773360"/>
            <a:ext cx="2592360" cy="503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67280" y="2349360"/>
            <a:ext cx="259236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4365720"/>
            <a:ext cx="2592360" cy="1079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CD3-6EEB-4549-9CD2-D27572F0241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d same study on 3-unit display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56000" y="2860560"/>
            <a:ext cx="4751280" cy="31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AEC-AC53-4869-8803-DF978FACC6B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4297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38280" y="1544760"/>
            <a:ext cx="6659640" cy="3468600"/>
          </a:xfrm>
          <a:custGeom>
            <a:avLst/>
            <a:gdLst/>
            <a:ahLst/>
            <a:rect l="l" t="t" r="r" b="b"/>
            <a:pathLst>
              <a:path w="4195" h="2185">
                <a:moveTo>
                  <a:pt x="321" y="2153"/>
                </a:moveTo>
                <a:cubicBezTo>
                  <a:pt x="413" y="2134"/>
                  <a:pt x="492" y="2012"/>
                  <a:pt x="651" y="1999"/>
                </a:cubicBezTo>
                <a:cubicBezTo>
                  <a:pt x="810" y="1986"/>
                  <a:pt x="1117" y="2128"/>
                  <a:pt x="1274" y="2076"/>
                </a:cubicBezTo>
                <a:cubicBezTo>
                  <a:pt x="1431" y="2024"/>
                  <a:pt x="1426" y="1743"/>
                  <a:pt x="1593" y="1686"/>
                </a:cubicBezTo>
                <a:cubicBezTo>
                  <a:pt x="1760" y="1629"/>
                  <a:pt x="2100" y="1738"/>
                  <a:pt x="2274" y="1731"/>
                </a:cubicBezTo>
                <a:cubicBezTo>
                  <a:pt x="2448" y="1724"/>
                  <a:pt x="2526" y="1736"/>
                  <a:pt x="2637" y="1641"/>
                </a:cubicBezTo>
                <a:cubicBezTo>
                  <a:pt x="2748" y="1546"/>
                  <a:pt x="2834" y="1230"/>
                  <a:pt x="2940" y="1162"/>
                </a:cubicBezTo>
                <a:cubicBezTo>
                  <a:pt x="3046" y="1094"/>
                  <a:pt x="3096" y="1228"/>
                  <a:pt x="3272" y="1232"/>
                </a:cubicBezTo>
                <a:cubicBezTo>
                  <a:pt x="3448" y="1236"/>
                  <a:pt x="3877" y="1368"/>
                  <a:pt x="3998" y="1187"/>
                </a:cubicBezTo>
                <a:cubicBezTo>
                  <a:pt x="4119" y="1006"/>
                  <a:pt x="4195" y="288"/>
                  <a:pt x="3998" y="144"/>
                </a:cubicBezTo>
                <a:cubicBezTo>
                  <a:pt x="3801" y="0"/>
                  <a:pt x="3066" y="181"/>
                  <a:pt x="2818" y="325"/>
                </a:cubicBezTo>
                <a:cubicBezTo>
                  <a:pt x="2570" y="469"/>
                  <a:pt x="2661" y="902"/>
                  <a:pt x="2510" y="1008"/>
                </a:cubicBezTo>
                <a:cubicBezTo>
                  <a:pt x="2359" y="1114"/>
                  <a:pt x="2080" y="940"/>
                  <a:pt x="1911" y="960"/>
                </a:cubicBezTo>
                <a:cubicBezTo>
                  <a:pt x="1742" y="980"/>
                  <a:pt x="1623" y="1001"/>
                  <a:pt x="1496" y="1131"/>
                </a:cubicBezTo>
                <a:cubicBezTo>
                  <a:pt x="1369" y="1261"/>
                  <a:pt x="1371" y="1638"/>
                  <a:pt x="1151" y="1738"/>
                </a:cubicBezTo>
                <a:cubicBezTo>
                  <a:pt x="931" y="1838"/>
                  <a:pt x="350" y="1667"/>
                  <a:pt x="175" y="1730"/>
                </a:cubicBezTo>
                <a:cubicBezTo>
                  <a:pt x="0" y="1793"/>
                  <a:pt x="75" y="2043"/>
                  <a:pt x="99" y="2114"/>
                </a:cubicBezTo>
                <a:cubicBezTo>
                  <a:pt x="123" y="2185"/>
                  <a:pt x="246" y="2164"/>
                  <a:pt x="321" y="2153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4680" y="2128680"/>
            <a:ext cx="6549840" cy="1870200"/>
          </a:xfrm>
          <a:custGeom>
            <a:avLst/>
            <a:gdLst/>
            <a:ahLst/>
            <a:rect l="l" t="t" r="r" b="b"/>
            <a:pathLst>
              <a:path w="4126" h="1178">
                <a:moveTo>
                  <a:pt x="227" y="1155"/>
                </a:moveTo>
                <a:cubicBezTo>
                  <a:pt x="310" y="1178"/>
                  <a:pt x="493" y="932"/>
                  <a:pt x="609" y="910"/>
                </a:cubicBezTo>
                <a:cubicBezTo>
                  <a:pt x="725" y="888"/>
                  <a:pt x="767" y="1011"/>
                  <a:pt x="926" y="1024"/>
                </a:cubicBezTo>
                <a:cubicBezTo>
                  <a:pt x="1085" y="1037"/>
                  <a:pt x="1325" y="1004"/>
                  <a:pt x="1563" y="986"/>
                </a:cubicBezTo>
                <a:cubicBezTo>
                  <a:pt x="1801" y="968"/>
                  <a:pt x="2134" y="985"/>
                  <a:pt x="2354" y="917"/>
                </a:cubicBezTo>
                <a:cubicBezTo>
                  <a:pt x="2574" y="849"/>
                  <a:pt x="2714" y="625"/>
                  <a:pt x="2884" y="579"/>
                </a:cubicBezTo>
                <a:cubicBezTo>
                  <a:pt x="3054" y="533"/>
                  <a:pt x="3244" y="658"/>
                  <a:pt x="3376" y="638"/>
                </a:cubicBezTo>
                <a:cubicBezTo>
                  <a:pt x="3508" y="618"/>
                  <a:pt x="3561" y="463"/>
                  <a:pt x="3675" y="456"/>
                </a:cubicBezTo>
                <a:cubicBezTo>
                  <a:pt x="3789" y="449"/>
                  <a:pt x="3995" y="639"/>
                  <a:pt x="4059" y="594"/>
                </a:cubicBezTo>
                <a:cubicBezTo>
                  <a:pt x="4123" y="549"/>
                  <a:pt x="4126" y="281"/>
                  <a:pt x="4057" y="184"/>
                </a:cubicBezTo>
                <a:cubicBezTo>
                  <a:pt x="3988" y="87"/>
                  <a:pt x="3765" y="0"/>
                  <a:pt x="3644" y="11"/>
                </a:cubicBezTo>
                <a:cubicBezTo>
                  <a:pt x="3523" y="22"/>
                  <a:pt x="3463" y="235"/>
                  <a:pt x="3329" y="249"/>
                </a:cubicBezTo>
                <a:cubicBezTo>
                  <a:pt x="3195" y="263"/>
                  <a:pt x="2962" y="98"/>
                  <a:pt x="2838" y="95"/>
                </a:cubicBezTo>
                <a:cubicBezTo>
                  <a:pt x="2714" y="92"/>
                  <a:pt x="2685" y="170"/>
                  <a:pt x="2584" y="233"/>
                </a:cubicBezTo>
                <a:cubicBezTo>
                  <a:pt x="2483" y="296"/>
                  <a:pt x="2338" y="453"/>
                  <a:pt x="2231" y="471"/>
                </a:cubicBezTo>
                <a:cubicBezTo>
                  <a:pt x="2124" y="489"/>
                  <a:pt x="2043" y="321"/>
                  <a:pt x="1939" y="341"/>
                </a:cubicBezTo>
                <a:cubicBezTo>
                  <a:pt x="1835" y="361"/>
                  <a:pt x="1782" y="623"/>
                  <a:pt x="1607" y="592"/>
                </a:cubicBezTo>
                <a:cubicBezTo>
                  <a:pt x="1432" y="561"/>
                  <a:pt x="1136" y="127"/>
                  <a:pt x="887" y="157"/>
                </a:cubicBezTo>
                <a:cubicBezTo>
                  <a:pt x="638" y="187"/>
                  <a:pt x="220" y="608"/>
                  <a:pt x="110" y="774"/>
                </a:cubicBezTo>
                <a:cubicBezTo>
                  <a:pt x="0" y="940"/>
                  <a:pt x="144" y="1132"/>
                  <a:pt x="227" y="1155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0040" y="3633840"/>
            <a:ext cx="6496200" cy="1192320"/>
          </a:xfrm>
          <a:custGeom>
            <a:avLst/>
            <a:gdLst/>
            <a:ahLst/>
            <a:rect l="l" t="t" r="r" b="b"/>
            <a:pathLst>
              <a:path w="4092" h="751">
                <a:moveTo>
                  <a:pt x="115" y="699"/>
                </a:moveTo>
                <a:cubicBezTo>
                  <a:pt x="229" y="751"/>
                  <a:pt x="351" y="707"/>
                  <a:pt x="822" y="706"/>
                </a:cubicBezTo>
                <a:cubicBezTo>
                  <a:pt x="1293" y="705"/>
                  <a:pt x="2419" y="717"/>
                  <a:pt x="2942" y="691"/>
                </a:cubicBezTo>
                <a:cubicBezTo>
                  <a:pt x="3465" y="665"/>
                  <a:pt x="3828" y="642"/>
                  <a:pt x="3960" y="551"/>
                </a:cubicBezTo>
                <a:cubicBezTo>
                  <a:pt x="4092" y="460"/>
                  <a:pt x="3860" y="224"/>
                  <a:pt x="3733" y="146"/>
                </a:cubicBezTo>
                <a:cubicBezTo>
                  <a:pt x="3606" y="68"/>
                  <a:pt x="3336" y="82"/>
                  <a:pt x="3195" y="84"/>
                </a:cubicBezTo>
                <a:cubicBezTo>
                  <a:pt x="3054" y="86"/>
                  <a:pt x="3001" y="170"/>
                  <a:pt x="2888" y="161"/>
                </a:cubicBezTo>
                <a:cubicBezTo>
                  <a:pt x="2775" y="152"/>
                  <a:pt x="2625" y="33"/>
                  <a:pt x="2519" y="30"/>
                </a:cubicBezTo>
                <a:cubicBezTo>
                  <a:pt x="2413" y="27"/>
                  <a:pt x="2366" y="145"/>
                  <a:pt x="2250" y="146"/>
                </a:cubicBezTo>
                <a:cubicBezTo>
                  <a:pt x="2134" y="147"/>
                  <a:pt x="2048" y="0"/>
                  <a:pt x="1820" y="38"/>
                </a:cubicBezTo>
                <a:cubicBezTo>
                  <a:pt x="1592" y="76"/>
                  <a:pt x="1163" y="317"/>
                  <a:pt x="883" y="376"/>
                </a:cubicBezTo>
                <a:cubicBezTo>
                  <a:pt x="603" y="435"/>
                  <a:pt x="266" y="337"/>
                  <a:pt x="138" y="391"/>
                </a:cubicBezTo>
                <a:cubicBezTo>
                  <a:pt x="10" y="445"/>
                  <a:pt x="0" y="650"/>
                  <a:pt x="115" y="699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7400" y="5805360"/>
            <a:ext cx="80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 task completion time for each technique depending of the ID of th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2421000"/>
            <a:ext cx="0" cy="27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0360" y="1773360"/>
            <a:ext cx="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92B-E45D-4CAB-9AB9-DA5E79F5D48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896000" cy="4202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279240" y="5805360"/>
            <a:ext cx="24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or rate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(in per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0" t="0" r="53750" b="3068"/>
          <a:stretch/>
        </p:blipFill>
        <p:spPr>
          <a:xfrm>
            <a:off x="1619280" y="1630440"/>
            <a:ext cx="2448000" cy="4103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140360" y="3571920"/>
            <a:ext cx="2232000" cy="504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F89-9756-4EEF-AF97-3047F907B69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473800" cy="4289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489400" y="580536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ive preferences (higher is be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00720" y="1628640"/>
            <a:ext cx="223200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3645000"/>
            <a:ext cx="223200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C7A-CC51-48B4-8D67-9E753AFBB77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746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rag-and-dr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s well on single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pointer-to-target technique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cc. push-and-thr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improvements were benefi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ush-and-p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utperformed all other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35F-E2CD-4F4F-8D42-18C4E6BFFE8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746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que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at bring content to the us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ed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think: this is because they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nimi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need for users to reorient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7F7-6150-461F-8B0F-853F79D6C3E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s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ize desig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5185080" cy="33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03B-2A62-439F-9BAD-29163B44D41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6156360" cy="3799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084720" y="4437000"/>
            <a:ext cx="2916360" cy="1957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s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EE1C-0DD9-4D48-AAD3-A9ED387A986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to Mountaz &amp; Br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 our demo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lirmm.fr/vag/dra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400-5769-4CA9-AC35-F5629E2D9F8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ing on wall-size disp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 of existing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king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nd-throw &amp; drag-and-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of both worlds: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ush-and-p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124000" cy="14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BD6-AD0A-402A-ADBD-2A683CCB17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« In case of » sli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« many same-icon targets »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p with rubber b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p with one rubber band (current selected targ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 desktop layout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 rooms arran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ing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13F-BA53-4DD6-91BA-27C00751160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« many same-icon targets » prob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09080" cy="53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BFD3-BE5D-440E-8A85-EFB3C606D8BE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sh-and-pop with rubber ba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14368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C7F-EB82-4A0D-92C4-0F5AB6A21E8D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667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334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sh-and-pop with one rubber band (current selected targe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14368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EAD-B22E-452D-B28A-8067479B678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334"/>
                            </p:stCondLst>
                            <p:childTnLst>
                              <p:par>
                                <p:cTn id="2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668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periment desktop layout choic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blocks of 10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interaction techniq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g-and-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desktop layou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sources and targets (different positions for each tri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source and targ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otal of 160 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display and mouse were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BE7C-F10E-4C9A-8F60-210B33E59D7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king menus [Kurtenbach, CHI 9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887560"/>
            <a:ext cx="4427640" cy="3556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932360" cy="24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0E3-328C-42C6-A295-B1827281A19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periment desktop layout choi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s wasn’t significant between the 2 desktop lay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0.706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rag-and-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0.566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3770280"/>
            <a:ext cx="4572000" cy="3087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0" y="3770280"/>
            <a:ext cx="457200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932-14F1-42C4-9B85-1019D308E6F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: Tableclo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85800" y="3505320"/>
            <a:ext cx="7314480" cy="2316600"/>
            <a:chOff x="685800" y="3505320"/>
            <a:chExt cx="7314480" cy="231660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685800" y="3505320"/>
              <a:ext cx="7314480" cy="19515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3714480" y="4373640"/>
              <a:ext cx="967320" cy="144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32A-3E61-4B5B-8CAC-5A60964B771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ll-size displ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mented surfaces are more and more wide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rtboard 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24642" t="0" r="0" b="0"/>
          <a:stretch/>
        </p:blipFill>
        <p:spPr>
          <a:xfrm>
            <a:off x="6721560" y="3716280"/>
            <a:ext cx="2422440" cy="241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924360" y="3357720"/>
            <a:ext cx="2384280" cy="31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099-31A7-4A22-8E27-49175A6838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1206" t="0" r="0" b="0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Problems with pen&amp;tou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581360"/>
            <a:ext cx="4572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ay not be able to reach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may be too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zels not touch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C08-54CB-4D35-BFF4-0D8F17974A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Related work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(RSVP version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11A-79A7-45E7-865A-4448EC2C5A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k-and-dr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k-and-drop [Rekimoto, 97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-and-put [Geißler, 98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79640" y="3716280"/>
            <a:ext cx="5143320" cy="23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A4E-A6F9-4379-9077-217BDBE089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34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68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perdragging [Rekimoto, CHI 99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6769080" cy="50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26676" t="9898" r="24390" b="20929"/>
          <a:stretch/>
        </p:blipFill>
        <p:spPr>
          <a:xfrm>
            <a:off x="6443640" y="3860640"/>
            <a:ext cx="2376360" cy="251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F6A-CBC8-41EF-8C2A-273960DFB0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7:58:37Z</dcterms:created>
  <dc:creator>collomb</dc:creator>
  <dc:description/>
  <dc:language>en-US</dc:language>
  <cp:lastModifiedBy>collomb</cp:lastModifiedBy>
  <dcterms:modified xsi:type="dcterms:W3CDTF">2005-05-09T08:35:04Z</dcterms:modified>
  <cp:revision>57</cp:revision>
  <dc:subject/>
  <dc:title>Diapositive 1</dc:title>
</cp:coreProperties>
</file>